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2B1-AF94-4D36-8E65-76B4B962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2C9-DDF5-41B0-919C-CF211060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79B-FEB8-4971-AA2D-A286BB28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8E1-F1E6-4138-BFEF-882C11B2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6DE-864F-40D1-9D80-A41D542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4F5-DCAE-47F4-BCF5-7B4F880F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22B-129D-4CAD-8753-0E4BD0A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F6A-4E9F-4210-987A-DC347C3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105-F10A-41A6-BA73-7888D62A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2B8-E489-40B2-8D68-C50997D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0A6-2563-4A05-8678-69B645FC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FC7-A580-4689-88BE-186A81D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A1F-DCC8-4A6A-A2D0-69BBC98876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4640" y="2286000"/>
            <a:ext cx="584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Concep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1219320" y="1066680"/>
            <a:ext cx="6781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97" r="0" b="64689"/>
          <a:stretch/>
        </p:blipFill>
        <p:spPr>
          <a:xfrm>
            <a:off x="685800" y="4343400"/>
            <a:ext cx="7620120" cy="163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072" r="0" b="8336"/>
          <a:stretch/>
        </p:blipFill>
        <p:spPr>
          <a:xfrm>
            <a:off x="685800" y="137160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1143000" y="2819520"/>
            <a:ext cx="69343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1143000" y="609480"/>
            <a:ext cx="6934320" cy="222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1143000" y="3581280"/>
            <a:ext cx="69343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940" r="0" b="70872"/>
          <a:stretch/>
        </p:blipFill>
        <p:spPr>
          <a:xfrm>
            <a:off x="914400" y="3886200"/>
            <a:ext cx="73915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616" t="2654" r="0" b="68219"/>
          <a:stretch/>
        </p:blipFill>
        <p:spPr>
          <a:xfrm>
            <a:off x="990720" y="4952880"/>
            <a:ext cx="731520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0" b="21142"/>
          <a:stretch/>
        </p:blipFill>
        <p:spPr>
          <a:xfrm>
            <a:off x="914400" y="685800"/>
            <a:ext cx="739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7887" r="1918" b="7948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594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1295280" y="1371600"/>
            <a:ext cx="6705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3848"/>
          <a:stretch/>
        </p:blipFill>
        <p:spPr>
          <a:xfrm>
            <a:off x="990720" y="1120680"/>
            <a:ext cx="72388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219320" y="1752480"/>
            <a:ext cx="6476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914400" y="917640"/>
            <a:ext cx="7010280" cy="40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0332" r="0" b="20528"/>
          <a:stretch/>
        </p:blipFill>
        <p:spPr>
          <a:xfrm>
            <a:off x="914400" y="4386240"/>
            <a:ext cx="7010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1430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371600" y="1447920"/>
            <a:ext cx="63244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523880"/>
            <a:ext cx="61722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371600"/>
            <a:ext cx="6095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5:20Z</dcterms:modified>
  <cp:revision>218</cp:revision>
  <dc:subject/>
  <dc:title>Slide 1</dc:title>
</cp:coreProperties>
</file>